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BDD-1CEC-44C6-B835-9D29E5DA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CAA-6573-4452-B502-6CAC43C3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58B-0379-461C-8EB4-05FC24E5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15D-5B72-494E-95E5-6BE44BFC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328E-C7E8-4B0B-AD80-EB9AEEB6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0329-C5C6-4CB9-ABB2-1F20D4C3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F4BE-946A-43AC-8BD4-70BA25A5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CBFE-C049-440E-ADD2-CD122E94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61C2-17A5-47DD-A107-98002180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6C53-85B8-4D73-8D20-B47D5EB7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6341-8811-43AA-869C-7CBFB95E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B967-08B7-4922-9AB1-41D753D7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DCF1-F7CA-402F-B6CA-4D182F15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B20D-6FD7-4528-9D3E-33747C13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D7FC-485E-401A-BEFC-C771CFC3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70CD-BE60-43D3-BEF4-520BBD29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E5C9-0E14-4258-B8EB-578ACF65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4A5-94AF-4BC9-8667-EE3E9AB5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345-A794-4E59-B478-35E84D4E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31C7-728D-4DF9-B4FA-9B13B507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0FC-1EF7-4962-B835-7E5AECB8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5A9-7EC9-426D-983E-21FA2F19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3D21-3519-4085-B908-7A97C0BA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17F-C33C-42DC-A4B3-5321CA83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863F-2B2D-4E48-8CE7-E8245EAE6592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ECB9-DF30-4A47-86FB-3D8C52F563A7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" Target="slide9.xml"/><Relationship Id="rId5" Type="http://schemas.openxmlformats.org/officeDocument/2006/relationships/slide" Target="slide2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BJ_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E03166_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2939760" cy="3838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066680" y="9907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Good friends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6095880" y="304920"/>
            <a:ext cx="2819520" cy="685800"/>
          </a:xfrm>
          <a:custGeom>
            <a:avLst/>
            <a:gdLst>
              <a:gd name="textAreaLeft" fmla="*/ 44280 w 2819520"/>
              <a:gd name="textAreaRight" fmla="*/ 2775240 w 2819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8769" h="21600">
                <a:moveTo>
                  <a:pt x="0" y="0"/>
                </a:moveTo>
                <a:lnTo>
                  <a:pt x="88769" y="0"/>
                </a:lnTo>
                <a:lnTo>
                  <a:pt x="88769" y="21600"/>
                </a:lnTo>
                <a:lnTo>
                  <a:pt x="0" y="21600"/>
                </a:lnTo>
                <a:close/>
              </a:path>
              <a:path fill="lightenLess" w="88769" h="21600">
                <a:moveTo>
                  <a:pt x="0" y="0"/>
                </a:moveTo>
                <a:lnTo>
                  <a:pt x="88769" y="0"/>
                </a:lnTo>
                <a:lnTo>
                  <a:pt x="87369" y="1400"/>
                </a:lnTo>
                <a:lnTo>
                  <a:pt x="1400" y="1400"/>
                </a:lnTo>
                <a:close/>
              </a:path>
              <a:path fill="darken" w="88769" h="21600">
                <a:moveTo>
                  <a:pt x="88769" y="0"/>
                </a:moveTo>
                <a:lnTo>
                  <a:pt x="88769" y="21600"/>
                </a:lnTo>
                <a:lnTo>
                  <a:pt x="87369" y="20200"/>
                </a:lnTo>
                <a:lnTo>
                  <a:pt x="87369" y="1400"/>
                </a:lnTo>
                <a:close/>
              </a:path>
              <a:path fill="darkenLess" w="88769" h="21600">
                <a:moveTo>
                  <a:pt x="8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369" y="20200"/>
                </a:lnTo>
                <a:close/>
              </a:path>
              <a:path fill="lighten" w="8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elf introduc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5943600" y="1981080"/>
            <a:ext cx="2819520" cy="685800"/>
          </a:xfrm>
          <a:custGeom>
            <a:avLst/>
            <a:gdLst>
              <a:gd name="textAreaLeft" fmla="*/ 44280 w 2819520"/>
              <a:gd name="textAreaRight" fmla="*/ 2775240 w 2819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8769" h="21600">
                <a:moveTo>
                  <a:pt x="0" y="0"/>
                </a:moveTo>
                <a:lnTo>
                  <a:pt x="88769" y="0"/>
                </a:lnTo>
                <a:lnTo>
                  <a:pt x="88769" y="21600"/>
                </a:lnTo>
                <a:lnTo>
                  <a:pt x="0" y="21600"/>
                </a:lnTo>
                <a:close/>
              </a:path>
              <a:path fill="lightenLess" w="88769" h="21600">
                <a:moveTo>
                  <a:pt x="0" y="0"/>
                </a:moveTo>
                <a:lnTo>
                  <a:pt x="88769" y="0"/>
                </a:lnTo>
                <a:lnTo>
                  <a:pt x="87369" y="1400"/>
                </a:lnTo>
                <a:lnTo>
                  <a:pt x="1400" y="1400"/>
                </a:lnTo>
                <a:close/>
              </a:path>
              <a:path fill="darken" w="88769" h="21600">
                <a:moveTo>
                  <a:pt x="88769" y="0"/>
                </a:moveTo>
                <a:lnTo>
                  <a:pt x="88769" y="21600"/>
                </a:lnTo>
                <a:lnTo>
                  <a:pt x="87369" y="20200"/>
                </a:lnTo>
                <a:lnTo>
                  <a:pt x="87369" y="1400"/>
                </a:lnTo>
                <a:close/>
              </a:path>
              <a:path fill="darkenLess" w="88769" h="21600">
                <a:moveTo>
                  <a:pt x="8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369" y="20200"/>
                </a:lnTo>
                <a:close/>
              </a:path>
              <a:path fill="lighten" w="8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ew    word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5715000" y="5791320"/>
            <a:ext cx="2286000" cy="533160"/>
          </a:xfrm>
          <a:custGeom>
            <a:avLst/>
            <a:gdLst>
              <a:gd name="textAreaLeft" fmla="*/ 34560 w 2286000"/>
              <a:gd name="textAreaRight" fmla="*/ 2251440 w 2286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92565" h="21600">
                <a:moveTo>
                  <a:pt x="0" y="0"/>
                </a:moveTo>
                <a:lnTo>
                  <a:pt x="92565" y="0"/>
                </a:lnTo>
                <a:lnTo>
                  <a:pt x="92565" y="21600"/>
                </a:lnTo>
                <a:lnTo>
                  <a:pt x="0" y="21600"/>
                </a:lnTo>
                <a:close/>
              </a:path>
              <a:path fill="lightenLess" w="92565" h="21600">
                <a:moveTo>
                  <a:pt x="0" y="0"/>
                </a:moveTo>
                <a:lnTo>
                  <a:pt x="92565" y="0"/>
                </a:lnTo>
                <a:lnTo>
                  <a:pt x="91165" y="1400"/>
                </a:lnTo>
                <a:lnTo>
                  <a:pt x="1400" y="1400"/>
                </a:lnTo>
                <a:close/>
              </a:path>
              <a:path fill="darken" w="92565" h="21600">
                <a:moveTo>
                  <a:pt x="92565" y="0"/>
                </a:moveTo>
                <a:lnTo>
                  <a:pt x="92565" y="21600"/>
                </a:lnTo>
                <a:lnTo>
                  <a:pt x="91165" y="20200"/>
                </a:lnTo>
                <a:lnTo>
                  <a:pt x="91165" y="1400"/>
                </a:lnTo>
                <a:close/>
              </a:path>
              <a:path fill="darkenLess" w="92565" h="21600">
                <a:moveTo>
                  <a:pt x="92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165" y="20200"/>
                </a:lnTo>
                <a:close/>
              </a:path>
              <a:path fill="lighten" w="92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5943600" y="3581280"/>
            <a:ext cx="2666880" cy="1067040"/>
          </a:xfrm>
          <a:custGeom>
            <a:avLst/>
            <a:gdLst>
              <a:gd name="textAreaLeft" fmla="*/ 69120 w 2666880"/>
              <a:gd name="textAreaRight" fmla="*/ 2597760 w 26668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’s frie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5560" y="609480"/>
            <a:ext cx="835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. Opposite of modern is c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 If you like doing something, you are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____ of doing it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0.Now we usually make fire with a lighter ,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ut in the past  people make fire with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1.A friend is a m______, because he or sh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an let us know about ourselves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2.A film is a m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3.Throw a stone means c_____ a ston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2080" y="60948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assic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9880" y="17208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n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86760" y="335268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atch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4840" y="388620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irror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50280" y="499752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ovi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5040" y="55627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as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6858000" y="2286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280" y="68580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4.go on living, escape being killed mean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5.A place where there are no people is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________ plac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6.They are look for an e-pal, that is to say,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y’re h_______ for a friend on the lin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7. The noun form of sorry is s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8. “To have the same interest or feeling a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omeone else”means to s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9.for example like---s ___ a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12193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urvi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2000" y="23302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deserte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5880" y="342900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unting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9600" y="396252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orrow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48560" y="507348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har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9040" y="5638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uch  a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655308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8520" y="609480"/>
            <a:ext cx="8202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. An exciting or dangerous journey  is an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_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2. Write someone a short letter mean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_____ someone a l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3. A  friend on the internet is an e-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4. They are afraid of something , “afraid ”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ns s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0440" y="114300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adventur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13840" y="2787480"/>
            <a:ext cx="44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drop                        lin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9280" y="33526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e-p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5880" y="446400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care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cast%20away1" descr=""/>
          <p:cNvPicPr/>
          <p:nvPr/>
        </p:nvPicPr>
        <p:blipFill>
          <a:blip r:embed="rId2"/>
          <a:stretch/>
        </p:blipFill>
        <p:spPr>
          <a:xfrm>
            <a:off x="2362320" y="914400"/>
            <a:ext cx="4451400" cy="510552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6553080" y="5486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1096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 Hank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70120" y="46483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T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5920" y="48769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WAY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castaway1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572680" cy="571500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firstslide"/>
          </p:cNvPr>
          <p:cNvSpPr/>
          <p:nvPr/>
        </p:nvSpPr>
        <p:spPr>
          <a:xfrm>
            <a:off x="685800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astaway2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715520" cy="514368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6172200" y="4495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08280" y="5791320"/>
            <a:ext cx="72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ve the problem of lonelines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astaway6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772400" cy="518148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655308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castaway7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7696080" cy="513072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" action="ppaction://hlinkshowjump?jump=firstslide"/>
          </p:cNvPr>
          <p:cNvSpPr/>
          <p:nvPr/>
        </p:nvSpPr>
        <p:spPr>
          <a:xfrm>
            <a:off x="7696080" y="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1840" y="6019920"/>
            <a:ext cx="593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Hunt for something to ea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4680" y="838080"/>
            <a:ext cx="369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he best design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6000" y="160020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1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6000" y="251460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2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6000" y="335268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3.A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6000" y="403848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4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20040" y="472428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5.B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20080" y="167652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6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4120" y="236232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7.B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20440" y="320040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8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20080" y="403848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9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487692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10.A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662940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65600" y="838080"/>
            <a:ext cx="296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ost reading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" y="1676520"/>
            <a:ext cx="867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1. how to collect water, hunt for foo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d make fir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1760" y="3429000"/>
            <a:ext cx="8343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2.He realizes friendship is importan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He realizes that he hasn’t been a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good friend……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655308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xjmap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47388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6629400" y="5486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4320" y="1166760"/>
            <a:ext cx="9268200" cy="545652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 Noland, a successful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usinessman,lands on a_______ island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fter a plane 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 has to learn basic survival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kills on the island. __ ____ __ do wit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oneliness, he _______ a friendship wit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 volleyball _____ Wilson and _____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t as a real frie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22320" y="190512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e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259092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0560" y="380988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order to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99320" y="4495680"/>
            <a:ext cx="21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518148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e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9600" y="5105520"/>
            <a:ext cx="139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-11520" y="609480"/>
            <a:ext cx="9403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years’ life on the island teache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uck the importance of having friend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being a good friend. He know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 should ______ happiness a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.Friends should _____ a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uch as they _____from each other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also learned that he _____have care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____ his friends.So in some way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 are __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266688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har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3352680"/>
            <a:ext cx="173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rrow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360" y="327672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giv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10240" y="396252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ak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120" y="4648320"/>
            <a:ext cx="167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houl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5257800"/>
            <a:ext cx="142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bou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0200" y="601992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acher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-18000" y="1523880"/>
            <a:ext cx="9172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man friends and unusual friend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important in our life.Friend an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hip help us understand ___ we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and how we should 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760" y="289548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who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68160" y="3581280"/>
            <a:ext cx="17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ehav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647712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-11520" y="0"/>
            <a:ext cx="8381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anguage points in Unit 1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quali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goodness, wort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is a man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f fine quali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material is poor qualit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hones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not telling lie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nest e-pa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loyal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true and faithfu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 loyal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sb./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loyal supporter of the Part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argu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—quarrel   argument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gue about/over 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gue with s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argued with the waiter about the price of th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eal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6629400" y="42670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99440" y="781200"/>
            <a:ext cx="8758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5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olve the problem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 work out the proble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ution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the way of solving the proble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either side can find any solution to an argument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so… that.../ such …tha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+ adj. /adv.  so good/smart/loyal.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uch +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名词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  such boys/material/e-pals/such a bo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uch a adj.+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单数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busy a 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o adj. a +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单数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ch a busy 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o many/much/little/fe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uch adj.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名词复数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不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ch funny stories   such good weath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>
            <a:off x="6553080" y="49528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8240" y="663480"/>
            <a:ext cx="9201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The box is ___ heavy that nobody can lift it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_____heavy is the box that nobody can lift it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These are ____ small shoes that I can’t put them on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It is ____ fine weather that we will go swimm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It was ___ a lovely day that we decided to go hiking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.The Smiths have ______ many children that the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their own basketball team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63760" y="65412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7240" y="1066680"/>
            <a:ext cx="7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560" y="262080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640" y="213372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0040" y="160020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960" y="312408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-12960" y="892080"/>
            <a:ext cx="8814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so…that…/so tha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…that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此…以致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tha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因此，所以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了，以便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 order that, in order to d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hard-working a boy is he that he always gets hig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rks in all subject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is ___ hard-working that he always gets high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rks in all subject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left early so that we could catch the first bu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left early ___ ____ ____we could catch the fir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u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2160" y="38098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8880" y="5226120"/>
            <a:ext cx="24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in order tha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firstslide"/>
          </p:cNvPr>
          <p:cNvSpPr/>
          <p:nvPr/>
        </p:nvSpPr>
        <p:spPr>
          <a:xfrm>
            <a:off x="647712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36440" y="816120"/>
            <a:ext cx="8895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/neither/no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头的倒装结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/neither +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连系动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情态动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助动词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语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也一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也不一样”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as at center school last year, and so was m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riend Bob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study hard, and so ____ my brother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can finish it in time,so___ we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go to the cinema tonight, so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don’t go to the cinema tonight, neither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ou didn’t see him, neither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07120" y="32004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doe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5040" y="370188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ca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22080" y="41911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wil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2280" y="469260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5040" y="514980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di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firstslide"/>
          </p:cNvPr>
          <p:cNvSpPr/>
          <p:nvPr/>
        </p:nvSpPr>
        <p:spPr>
          <a:xfrm>
            <a:off x="6324480" y="55627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-15840" y="739800"/>
            <a:ext cx="9472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it is /was with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John has gone, and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 it is with Mary.(=so has Mary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ke didn’t attend the meeting, and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 it was with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(=neither did I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m’s father was a good worker, and worked very hard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it was with Jack’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系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态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助动词  “的确如此”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Tomorrow will be Monda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So it will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， 是星期一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1960" y="5486400"/>
            <a:ext cx="160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1-5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DDB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71880" y="5486400"/>
            <a:ext cx="155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6-1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BBB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54320" y="5410080"/>
            <a:ext cx="158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1-15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BDA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-12600" y="762120"/>
            <a:ext cx="9136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7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ike/love/enjo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fon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in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be interested in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(doing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think …is ok/interesting/boring/terrib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come fond of him---be beginning to like hi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8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urvive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escape being killed, go on living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rvival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last surviving member of the famil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survive o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feed on/ live o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9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ast Awa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be left away on an island after your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ip has sunk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st—throw    cast a ne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64008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Monotype Corsiva"/>
              </a:rPr>
              <a:t>Warmly Welcome to Our School 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Hello ,everyone 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My name is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Peary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My Chinese name is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Zhang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    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Meixiang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 </a:t>
            </a:r>
            <a:r>
              <a:rPr b="0" lang="zh-CN" sz="2800" spc="-1" strike="noStrike">
                <a:solidFill>
                  <a:srgbClr val="545472"/>
                </a:solidFill>
                <a:latin typeface="华文楷体"/>
                <a:ea typeface="华文楷体"/>
              </a:rPr>
              <a:t>(</a:t>
            </a:r>
            <a:r>
              <a:rPr b="0" lang="zh-CN" sz="2800" spc="-1" strike="noStrike">
                <a:solidFill>
                  <a:srgbClr val="545472"/>
                </a:solidFill>
                <a:latin typeface="华文楷体"/>
                <a:ea typeface="华文楷体"/>
              </a:rPr>
              <a:t>张美祥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)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’m very glad to be your English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     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teacher.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’d like to be your friend, to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From now on, we’ll study together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 hope we can help and learn from each othe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Thank you very much. 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6" name="peary1" descr=""/>
          <p:cNvPicPr/>
          <p:nvPr/>
        </p:nvPicPr>
        <p:blipFill>
          <a:blip r:embed="rId12"/>
          <a:stretch/>
        </p:blipFill>
        <p:spPr>
          <a:xfrm>
            <a:off x="6172200" y="1600200"/>
            <a:ext cx="2365200" cy="350532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617220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42640" y="228600"/>
            <a:ext cx="89146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10.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play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man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named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uck Nolan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t as /play the part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 man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with the nam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uck Nolan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11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.so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usy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that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has little time for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oo busy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have any time to stay with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nage to do 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s on a fligh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 is fly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 on board the plane/ship/trai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get on the plane/the ship/trai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ras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n. vi. --fall/drop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rash into the tre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car crash                    an aircraft cras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firstslide"/>
          </p:cNvPr>
          <p:cNvSpPr/>
          <p:nvPr/>
        </p:nvSpPr>
        <p:spPr>
          <a:xfrm>
            <a:off x="6477120" y="49528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" y="685800"/>
            <a:ext cx="8672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5.deserted island--- on an island 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without peo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ple/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here there are no peop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 deserted village/island/temp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esert n. v.    in the desert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6.hunt for---search for/look fo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7.challeng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something difficult that you have to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8.in order to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so as to do/in order that sb can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9.develop a friendship---- make a friendship bett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0.realise/realize---- come to know, make sth tru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realize his own danger          realize one’s hope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73200" y="871560"/>
            <a:ext cx="818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1.have been thinking about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现在完成进行时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表示动作从过去某时开始， 一直延续到现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在并有可能延续下去。它和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lways, ofte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等连用时表示重复动作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om yesterday, he has been reading the novel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Hi, Tracy, you look tired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I am tired. I ______ the living room all da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. painted                      B. had painte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. have been painting   D. have painte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2.treat …a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regard …as, look on …. As      treatment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92680" y="762120"/>
            <a:ext cx="8814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3.share happiness and sorrow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to have the same happiness and unhappines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----to have the same feeling or intere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s someone els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(in) something     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et’s share, you have half and I have half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 something with sb.    share the cost with you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 my troubles and joy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ake my share of the co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4.to one’s great sorrow/surprise/joy…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ook at sb. in sorrow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43520" y="914400"/>
            <a:ext cx="8385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4.care about ---take care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on’t care to do something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否定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are for—like be fond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5.should have cared more about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ould have done 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过去应该做而没做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ouldn’t have done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过去不该做而做了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hat a pity! He should _____ ________ (solve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he problem. Otherwise he can’t be busy now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e should _____ _______ (cast) awa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he useless things last week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45400" y="380988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olve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71800" y="4724280"/>
            <a:ext cx="168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ca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5800" y="533520"/>
            <a:ext cx="80773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6.give as much as we tak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7.such as--- for example/ lik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8.adventure--- a long walk in the countr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ave an adventure in Afric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n adventure stor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9.scared—afrai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e scared of (doing)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--- be afraid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e scared to do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30.like joking around---like making joke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31.drop me a line---write me a short letter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write a short letter tom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435760" y="76320"/>
            <a:ext cx="47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A sample e-mail(Page 6)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880" y="1066680"/>
            <a:ext cx="8937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i Jane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y name is Xiao Fei and I come from Hunan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unan is in the south of china. I am a middle school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tudent and like speaking English.I read your e-pal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d and I would like to be your e-pal.You wrote that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 like rock music. Can you tell me what band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 like? Have you ever heard any Chinese rock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bands? You also wrote that you like talking an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joking around.I do too! I think you and can be goo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s. Please send me an e-mail as soon as possible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Xiao Fei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29400" y="0"/>
            <a:ext cx="50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Exercise 3 in Page 87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8120" y="914400"/>
            <a:ext cx="8975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ear aunt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i! I have made many friends at my school. W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re getting along very well. But one day one of m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s lost 100 yuan. He thought I had taken hi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oney and he told others about it. They are not a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ly to me as they were before. I’m very unhapp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 need your help. Can you give me some advice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rs,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Gao Fei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1849320" y="-95400"/>
            <a:ext cx="919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9" name="chinaadmimap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638680" y="3886200"/>
            <a:ext cx="12956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380880" y="533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map1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8229600" cy="5506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225560" y="487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029800">
            <a:off x="6946560" y="4757760"/>
            <a:ext cx="114300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304920" y="3049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7160" y="762120"/>
            <a:ext cx="72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Likes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   :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surf the Internet,table tenni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1200" y="3809880"/>
            <a:ext cx="7297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like/enjoy/love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am fond of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am into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My hobbies/ interests are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think … is interesting/boring/terribl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2120" y="2587680"/>
            <a:ext cx="7943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Dislikes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noises, go shopping, play card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with my son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6440" y="2025720"/>
            <a:ext cx="60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some TV plays ,classic music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07640" y="1415880"/>
            <a:ext cx="55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news, cigarette(sometimes) ,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6324480" y="45720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Would you please answer me some questions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ahoma"/>
              </a:rPr>
              <a:t>1. Where are you from?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4" name="PE03166_" descr=""/>
          <p:cNvPicPr/>
          <p:nvPr/>
        </p:nvPicPr>
        <p:blipFill>
          <a:blip r:embed="rId2"/>
          <a:stretch/>
        </p:blipFill>
        <p:spPr>
          <a:xfrm>
            <a:off x="6858000" y="3809880"/>
            <a:ext cx="1889280" cy="2467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V="1">
            <a:off x="990720" y="5397120"/>
            <a:ext cx="621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280" y="5181480"/>
            <a:ext cx="620064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5. What do you think of Songgang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Middle School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0000" y="4724280"/>
            <a:ext cx="622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4. Are you living a happy life now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9720" y="3733920"/>
            <a:ext cx="613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3. How many people are there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in your    family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9960" y="2743200"/>
            <a:ext cx="70783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2. Which part of Xingjiang  do you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live in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0" y="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90720" y="32000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9. How can you learn  English well?         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2" name="BS00554_" descr=""/>
          <p:cNvPicPr/>
          <p:nvPr/>
        </p:nvPicPr>
        <p:blipFill>
          <a:blip r:embed="rId2"/>
          <a:stretch/>
        </p:blipFill>
        <p:spPr>
          <a:xfrm>
            <a:off x="5486400" y="3962520"/>
            <a:ext cx="3429000" cy="2230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066680" y="914400"/>
            <a:ext cx="69343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6. Do you have any friends, what do you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think of them?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0200" y="2057400"/>
            <a:ext cx="522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7.  Do you like English? Why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14120" y="2590920"/>
            <a:ext cx="67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8. What are your likes and dislikes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1219320" y="4495680"/>
            <a:ext cx="2286000" cy="1143000"/>
          </a:xfrm>
          <a:custGeom>
            <a:avLst/>
            <a:gdLst>
              <a:gd name="textAreaLeft" fmla="*/ 73800 w 2286000"/>
              <a:gd name="textAreaRight" fmla="*/ 2212200 w 2286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3193" h="21600">
                <a:moveTo>
                  <a:pt x="0" y="0"/>
                </a:moveTo>
                <a:lnTo>
                  <a:pt x="43193" y="0"/>
                </a:lnTo>
                <a:lnTo>
                  <a:pt x="43193" y="21600"/>
                </a:lnTo>
                <a:lnTo>
                  <a:pt x="0" y="21600"/>
                </a:lnTo>
                <a:close/>
              </a:path>
              <a:path fill="lightenLess" w="43193" h="21600">
                <a:moveTo>
                  <a:pt x="0" y="0"/>
                </a:moveTo>
                <a:lnTo>
                  <a:pt x="43193" y="0"/>
                </a:lnTo>
                <a:lnTo>
                  <a:pt x="41793" y="1400"/>
                </a:lnTo>
                <a:lnTo>
                  <a:pt x="1400" y="1400"/>
                </a:lnTo>
                <a:close/>
              </a:path>
              <a:path fill="darken" w="43193" h="21600">
                <a:moveTo>
                  <a:pt x="43193" y="0"/>
                </a:moveTo>
                <a:lnTo>
                  <a:pt x="43193" y="21600"/>
                </a:lnTo>
                <a:lnTo>
                  <a:pt x="41793" y="20200"/>
                </a:lnTo>
                <a:lnTo>
                  <a:pt x="41793" y="1400"/>
                </a:lnTo>
                <a:close/>
              </a:path>
              <a:path fill="darkenLess" w="43193" h="21600">
                <a:moveTo>
                  <a:pt x="43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3" y="20200"/>
                </a:lnTo>
                <a:close/>
              </a:path>
              <a:path fill="lighten" w="43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-229680" y="723960"/>
            <a:ext cx="9647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f someone doesn’t like telling lies, he i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f someone is not afraid of danger, we say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is b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  true and faithful , not turning against l_____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If an old man is bright we call him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____ man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opposite of  ugly(for man)  h______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. if a boy is clever , we say he is s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 “Work out a problem” means s______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problem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1120" y="12952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ones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4640" y="23623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bra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46320" y="28954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loy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7600" y="403848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wis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7160" y="4572000"/>
            <a:ext cx="20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andsom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2960" y="51055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mar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67520" y="563868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ol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68580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2:35:49Z</dcterms:created>
  <dc:creator>sgzx</dc:creator>
  <dc:description/>
  <dc:language>en-US</dc:language>
  <cp:lastModifiedBy>sgzx</cp:lastModifiedBy>
  <dcterms:modified xsi:type="dcterms:W3CDTF">2003-09-11T07:12:53Z</dcterms:modified>
  <cp:revision>48</cp:revision>
  <dc:subject/>
  <dc:title>PowerPoint 演示文稿</dc:title>
</cp:coreProperties>
</file>